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C481C-B406-411C-B890-E754BE398E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2EFEE-65DA-4FD3-96E0-09781EDEE18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4F7F3-5078-49A2-94EE-B72C61AD42C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59CF1-FDA9-447B-825C-8206EF7422D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9B25F-DA12-45FF-8907-BB78DA43DE3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D42E8-2C87-4B49-844C-B938A542B7E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37B97-84C8-4355-83E2-37D1C28C724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4E173-DCF2-40DE-9146-DCA169B0C23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C70BB-FDA7-4EC5-92D8-32984C3E728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BC946-CA62-43F7-AC2B-77A184DDD32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EAAA1-76E4-4F4F-BE3C-8C208343381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2D33A-CF6E-447C-AF1F-11542E3AB7D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D3DC6-43FA-4172-AF72-DF6D14F1E99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BE95E-E2FA-4805-930B-EACE6356C35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2B7B8-7B7F-495B-85D9-5E11FE5B878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AFB20-1DED-4C2E-AEEC-78C273786D6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6C127-6F2B-4AB9-BD5E-7686E22DCA6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04295-170D-4E5C-8C48-4172831CB47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3F743-02BE-4397-A34C-AF37464CBCD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063C-74EE-4792-AEF6-5EB90A9FE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5A9D-36ED-44C7-BE68-ED8C831E7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445A-F5F2-4793-8F8A-F9D4D4A06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37A8-F095-4522-AB34-5DDFF08E5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27563-720F-42FA-9192-451101EF9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0DE3B-ADBA-4DA9-BD32-BA7B30000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6312A-C7D5-4049-8DFF-8FC45B31E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D1441-CCCD-4F49-8069-384C9C238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8C910-D6C0-40FE-9E6B-0405AC5C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DF56C-C501-4007-9E0A-FD44AD3C3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B4000-157B-41C2-B033-37E9D9E8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566A-5AE5-4789-9631-CDB0FF1BF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289D0-13B7-4A39-B5FF-0DE0BEB4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49B35-2DEE-44F8-9EBD-326D9E43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B57C7-A318-4D25-9FAD-0C815C109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D71C5-6D75-45CD-8FAA-1D33FC2E3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22910-DBD4-4A58-B553-2D8B4E28B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52ACD-E5C0-41FC-89BB-72B27AEDF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07F1F-5924-4DE1-86B1-10464E1C4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655C7-23F5-4ED4-990F-675263086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DA604-B105-4671-B8F3-D30F100EE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38608-3922-47CF-96F3-7C1EE4348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EAD3-D47B-464F-929A-DBB0D590C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22B34-7F3A-45A4-AFCB-A599AEFDF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E2541-C520-4E06-8996-5F84A0E3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9058F-7C07-41F8-A896-D82AC471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18567-4BD2-4A67-A212-45D59520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0E3A9-7806-4B16-812E-90046D24A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0CF83-5806-4C8D-8DAC-D99E4AA82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87AF4-1F4E-4776-843A-4E39045A9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A5CC1-E1A4-49C5-B04B-EEF1476B8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3553A-0E63-43AB-AFEB-44E9E9FCF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C58A8-5E17-4719-AEFD-D81A71E14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B297-8299-4100-B812-0D98693B3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5CCAF-4CEB-41A9-B03B-0B026B08A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7F67E-4D03-4594-9963-7B953F3A5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1E949-A242-4FFC-AD96-64C55B5BA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01196-3AA4-49E0-A231-46E5A478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008A6-F806-4954-96D4-244A9336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2DF13-985C-4110-AE05-6EFDE620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DE45D-7E74-4D95-A7F8-54E45D14B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1F871-2337-4E25-8A2C-1CAA9F817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22D24-1C0D-4E7A-9262-A66AACD71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D4D2B-3B3B-4E68-B906-B2CEC3BE7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2BC2-9C29-4798-82FC-15A996862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70195-27FF-4AD6-97C3-0F9B1A318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9176F-6A7E-47C9-A848-1D34A3C88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6239D-C5C3-4DA7-93F8-24FE12574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BFEDF-AA2B-485A-AF25-DE63FEBBD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56AFE-8914-4F1A-A514-D146BD34B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E65C0-EF8B-4AF7-9BC0-92640726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C8938-A1DB-4C01-9CEF-A6734785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6FE96C-F42E-46FF-9E8D-7BD5C143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0D319-A9D6-42EA-9F99-949473519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A92F7-901B-4EC6-9C0D-596E35A7D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4961-01F8-4463-81D5-0774BA727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F1E52-324B-4B95-8F6F-8FA2A2187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28854-420D-4E35-B8A7-E1628A0FB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98DB8-A024-440C-BE75-BA8597473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F920A-93B7-4040-8B8F-C2C4D51CA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148BF-1651-48BA-A82F-6DAF90131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CF8FB-FF1F-4594-B299-F76E87DB4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FC215-105C-4F12-96DA-F8DA38711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21247A-38FA-466C-A534-8B24B9565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7CD554-9DAB-484D-87D2-D2C253F4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7CDE5-0887-4A2C-8F07-770A0C84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5FEE-54C4-4BE6-B3FA-91F8595C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17EA0-53ED-4F0E-B2D4-5DB82ED2D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7A338-FA39-4FB4-B88C-6F9F28747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B2AAB8-4C59-4D07-81AB-59FF8429F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5753FB-DFCF-4A3F-BC36-2B2EA8533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576391-0F8C-49E7-B904-29DCD2C81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10C4BF-F6D3-4EF1-B719-29097ACF8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C568BA-C7A9-44AC-A4C0-8FDDEB691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3D1D5-60FA-431A-AB12-51D2BFE3D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C9F509-6ADC-4F6D-8CEE-6CD542778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EABE4-6C2D-4CAF-87DE-25AEB16B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6F1E-F956-476F-9F52-B275FF69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8D14E7-281A-4CAB-B16E-219766C4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326B2-8D2E-41D4-9E85-B8B46F5E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D2009-5E09-4CF9-A6A2-AD2BFE634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C3E77-9E71-4DE9-8D4D-F51FF9B0C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5FF8EA-33EB-4B4D-89AB-0ECF7556C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11E4-07D2-4C2C-8C88-23AECD0B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B0D81-0B18-4BFE-A85C-AE9338C95899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A353E-434D-4B5E-BA78-8353B76493DF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F1353-D445-4C36-AEDA-E6431F503D32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F149E-56E1-453E-BF85-5286B762C3F8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36F2D-3AD3-46BC-AF6F-0BE5AD462FA5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2D2B6-5800-41EC-9DC0-8C69A941F858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B0979-0D6E-46FD-8546-4737D1B4A133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010720" cy="20905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Mrs Cathey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Add Color to a Specific Objec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82480" indent="-5140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Quick selection too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lect specific objec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Make a layer—Right Click Selection—Layer via cop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hange color of object—fill colo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911160" indent="-51444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Corbel"/>
              </a:rPr>
              <a:t>OR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911160" indent="-51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Image—Adj—Hue and Saturation—Coloriz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911160" indent="-51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Desaturate or Remove Color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82480" indent="-5140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mage—Adjust—Desaturat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Use eraser to remove filter from one objec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rase to histor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Perspective Crop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914400" y="178452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s is to straighten out pictures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at are taken at an angl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rop Too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Clear at top Righ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lect area to keep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perspective on toolbar on the top righ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Reselect are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ress ente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Keystone Effec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82480" indent="-5140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New Layer via copy (Ctrl S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View—show grid or Ctrl ‘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F for full scree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dit—Free Transfor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HOLD DOWN CTRL AND ADJU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ress ente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Feathering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03" name="Content Placeholder 2" descr=""/>
          <p:cNvPicPr/>
          <p:nvPr/>
        </p:nvPicPr>
        <p:blipFill>
          <a:blip r:embed="rId1"/>
          <a:stretch/>
        </p:blipFill>
        <p:spPr>
          <a:xfrm>
            <a:off x="865080" y="1316160"/>
            <a:ext cx="805968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Burn Tool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82480" indent="-5140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Lollipop—Select Han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djust settings at the top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and drag area to bur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Filter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609480" y="178452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lters stack on top of each othe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lte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onvert  to Smart Filters (makes a filter a layer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lter Galler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ppl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hange Color Mod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82480" indent="-5140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Open 2 pic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rrange to see both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On index or jpeg  Image—Mode—RGB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ombin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*Gif cannot go to JpE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JPEG 16 Million Color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GIF 200 Colors*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Automate Scanning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l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utomat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rop and straighte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Image Adjustment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trl L=Image      Adjustment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Levels Dialog Box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Histogram comes up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Look for flat line and start there to drag toward the histogram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cxnSp>
        <p:nvCxnSpPr>
          <p:cNvPr id="379" name="Straight Arrow Connector 4"/>
          <p:cNvCxnSpPr/>
          <p:nvPr/>
        </p:nvCxnSpPr>
        <p:spPr>
          <a:xfrm>
            <a:off x="3048120" y="1905120"/>
            <a:ext cx="305280" cy="2160"/>
          </a:xfrm>
          <a:prstGeom prst="straightConnector1">
            <a:avLst/>
          </a:prstGeom>
          <a:ln w="11880">
            <a:solidFill>
              <a:srgbClr val="7fd13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Fixing Wrinkles and Scratch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Healing Brush Button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looks like a band ai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Healing Brush is more selective so you have to “alt click” on the point to be duplicated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Spot Healing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–top left brush size adj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Click and drag over bad spot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Border Around A Pictur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lect-Select all or Ctrl A (then marching ants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14440" indent="-51444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lect Modify Border to chose border width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14440" indent="-51444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dit—fill and choose foreground or background (can choose patterns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14440" indent="-51444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trl D to deselec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Make a New Layer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ayer—New Laye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trl J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trl Shift 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Add Styles to An Objec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914400" y="1784520"/>
          <a:ext cx="7772400" cy="248256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24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Layer th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Layer styl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e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Layer Panel—fx butt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Dbl click on lay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1241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Tip: To get to styles dialog box you must click the words, to select a style you must click the word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Return to Last Saved Imag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le—Rever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Zoom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trl +  zoom i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trl -  zoom ou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Add Color Tone to a Pictur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82480" indent="-5140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mage—Adjustment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hoto Filte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mage Adjustment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Hue and saturatio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Colorize and Adju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2T01:32:00Z</dcterms:created>
  <dc:creator>sherri.cathey</dc:creator>
  <dc:description/>
  <dc:language>en-US</dc:language>
  <cp:lastModifiedBy>sherri.cathey</cp:lastModifiedBy>
  <dcterms:modified xsi:type="dcterms:W3CDTF">2009-09-29T14:39:03Z</dcterms:modified>
  <cp:revision>13</cp:revision>
  <dc:subject/>
  <dc:title>Photoshop Step-by-Steps</dc:title>
</cp:coreProperties>
</file>